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0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16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E25A-913E-4848-B23B-BA334487EF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FD82-5148-486B-9156-143F00DEC4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HA 05/05 calls member state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for transition to universal coverage …to meeting the needs of the population for health care… to attaining internationally agreed development goals, including those contained in the United Nations Millennium Declar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blic financing for basic health services is essential to aim at universal coverage and especially pro-poor fair finan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specific preventive and treatment interventions which can reduce the burden of disease and premature deaths (some 10m in ACP region?)while socio-economic conditions take their time to reduce risk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MH : comprehensive package of essential services (including HIV/AIDS) costs € 24-32 pc and year in low-income countries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(similar BHCP costing analysis in Zambia : € 18/2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3BFD-79F4-48C5-B169-FBB1DA37BF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financing under CMH threshold : 70 countries, with a total gap € 42,2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countries were to allocate 15% of their government's budgets to health (Abuja target, OCDE average),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public funding form domestic sources would be € 25,6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50 countries -35 are ACP (34 in Africa)-, would still face a gap of € 13,4 b (10 b for AC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spects of economic growth, would reduce gradually that gap but needs would also raise (non-communicable diseases, AI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D472-E0BB-4BEE-8C1F-D8731707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54A-51CE-497F-8796-EDB2551E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0DF5-6B04-4B4E-B0DA-125ECFE4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8CC2-BB31-46A0-80D2-AF0968F4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FB3-7D4D-4EE0-8787-A436609C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A1F7-E3F5-42F1-9FB1-2C945C9D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F910-BB6B-479C-8348-AD68C4D1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934E-F639-474D-B597-8ECDF94F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F64-11B0-409F-8C2E-91F004CC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4D0-FD8D-456F-8243-EF496125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F72-6AE0-451B-9A9A-FF567BAB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C84A-5375-4892-9459-B91DCA0E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0203-FA9B-4178-8649-5626B0C52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Enhancing EC’s contribution to address </a:t>
            </a:r>
            <a:br>
              <a:rPr sz="1800"/>
            </a:b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hild and maternal undernutrition and its causes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” </a:t>
            </a:r>
            <a:br>
              <a:rPr sz="28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C strategies and financial instrument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pproach from the health sector</a:t>
            </a:r>
            <a:br>
              <a:rPr sz="2800"/>
            </a:br>
            <a:br>
              <a:rPr sz="2800"/>
            </a:b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Juan Ga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Health team coordinato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Responsible for policies and programmes on children in external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DG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Health and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219640" y="1341360"/>
            <a:ext cx="266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Infections  : low intake, weight loss, micronutrients’ deficit (eg. malaria : low birth we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Malnutrition : poor immunity, increased morbidity and mort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806480"/>
            <a:ext cx="4038480" cy="4111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859280" y="2781360"/>
            <a:ext cx="360360" cy="2303280"/>
          </a:xfrm>
          <a:custGeom>
            <a:avLst/>
            <a:gdLst>
              <a:gd name="textAreaLeft" fmla="*/ 48240 w 360360"/>
              <a:gd name="textAreaRight" fmla="*/ 312120 w 360360"/>
              <a:gd name="textAreaTop" fmla="*/ 402840 h 2303280"/>
              <a:gd name="textAreaBottom" fmla="*/ 167004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7956720" y="2637000"/>
            <a:ext cx="444240" cy="2520720"/>
          </a:xfrm>
          <a:custGeom>
            <a:avLst/>
            <a:gdLst>
              <a:gd name="textAreaLeft" fmla="*/ 59400 w 444240"/>
              <a:gd name="textAreaRight" fmla="*/ 384840 w 444240"/>
              <a:gd name="textAreaTop" fmla="*/ 441000 h 2520720"/>
              <a:gd name="textAreaBottom" fmla="*/ 182772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trition and the health sector :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ed : minimum thresholds for public financ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ublic financing for basic health serv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ssential to aim 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versal and equi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verage and especially pro-poor fair financ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pecific preventive and treatment interventions which can reduce the burden of disease and prevent premature death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hile socio-economic conditions take their time to reduce risk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H : comprehensive package of essential services (including HIV/AIDS) cost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€ 24-32 pc and 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low-income count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imilar BHCP costing analysis in several ACP countr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Gap and “potential gap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Public financing gap under CMH threshold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 countries, with a total gap € 42,2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ountries were to allocat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5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ir government's budgets to health (Abuja target)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public funding form domestic sources would be € 25,6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50 countries 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5 ACP (34 in Afr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, would still face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ap of € 13,4 b (10 b for AC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55640" y="4759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Abuja space, </a:t>
            </a:r>
            <a:br>
              <a:rPr sz="3600"/>
            </a:b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but qualifi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149720" cy="5867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284720" y="1906560"/>
            <a:ext cx="4402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807732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83908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ACTION PLAN (2008-2010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IMPLEMENTATION OF THE AFRICA-EU STRATEGIC PARTNERSHIP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dentify joint actions to strengthen district and national health systems, including participatory and action-led health management information systems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e elimination of fees for basic health car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strengthening preventive health care systems and health education, and stronger involvement of civil society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The response of health systems in ACP countries: financing capa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3520" y="1219320"/>
          <a:ext cx="8229600" cy="5135400"/>
        </p:xfrm>
        <a:graphic>
          <a:graphicData uri="http://schemas.openxmlformats.org/drawingml/2006/table">
            <a:tbl>
              <a:tblPr/>
              <a:tblGrid>
                <a:gridCol w="1785960"/>
                <a:gridCol w="1314360"/>
                <a:gridCol w="1282680"/>
                <a:gridCol w="1249200"/>
                <a:gridCol w="1347840"/>
                <a:gridCol w="12495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tential financing gap for health (in annual million €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lth gap per capi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tential financing gap for health (in annual million €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lth gap per capi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ni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.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dagas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7.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rkina Fas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8.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law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.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rund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.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li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ou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.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uritani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tral African Re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.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zambiqu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5.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.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ger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3.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ge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1.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go (RD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0.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.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pua new Guine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itre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wand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hiop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3.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eg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mbi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erra Leon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.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ha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4.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ali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.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ine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.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dan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8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inea Biss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go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it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.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gand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.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ory Coas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.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amb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.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ny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6.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imbabw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be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.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g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062.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The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uffici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Fragmen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qui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llig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dic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AC data on healtjh ODA vs. </a:t>
            </a:r>
            <a:br>
              <a:rPr sz="2800"/>
            </a:b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« potential financing gap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16000" y="1484280"/>
          <a:ext cx="7251840" cy="43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484280"/>
                    <a:ext cx="725184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292720" y="4508640"/>
            <a:ext cx="288144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$ 3.5 b for Heath general / basic (2.8) vs &gt; $ 8  b for HIV/AI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he facts – MDG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1916280"/>
            <a:ext cx="93636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3640" y="1700280"/>
            <a:ext cx="2871720" cy="4032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03640" y="923760"/>
            <a:ext cx="2655720" cy="570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2514600" cy="4670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08000" y="1989000"/>
            <a:ext cx="72108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5280" y="2565360"/>
            <a:ext cx="43344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084720" y="981000"/>
            <a:ext cx="2835360" cy="585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156360" y="1700280"/>
            <a:ext cx="2616120" cy="2881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764480" y="3357720"/>
            <a:ext cx="1379520" cy="298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5867280" y="4581360"/>
            <a:ext cx="201132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ealth needs/ODA/gap vs </a:t>
            </a: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IDS needs/ODA/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537080" cy="3095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132000" y="4653000"/>
            <a:ext cx="3167280" cy="1917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724360" y="2349360"/>
            <a:ext cx="1079640" cy="2311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Arial"/>
              </a:rPr>
              <a:t>€ </a:t>
            </a:r>
            <a:r>
              <a:rPr b="0" lang="fr-BE" sz="900" spc="-1" strike="noStrike">
                <a:solidFill>
                  <a:srgbClr val="000000"/>
                </a:solidFill>
                <a:latin typeface="Arial"/>
              </a:rPr>
              <a:t>54 b by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Health system fragm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&gt; 100 global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dvocacies by problems, isolated funding gap analysis (</a:t>
            </a:r>
            <a:r>
              <a:rPr b="1" lang="fr-BE" sz="2800" spc="-1" strike="noStrike">
                <a:solidFill>
                  <a:srgbClr val="ff0000"/>
                </a:solidFill>
                <a:latin typeface="Arial"/>
              </a:rPr>
              <a:t>consolidated &gt; 30 b!),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vertical approaches, duplication and opportunity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he case of a safe delivery : basic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Vs. divided into?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MDG 1 : reducing low birth weight and mal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MDG 4 : reducing neonatal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MDG 5 : SRHRs : reducing maternal de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MDG 6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AIDS : PMT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Malaria : AN PrT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Tb : B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ambiq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budget for the health secto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920" y="4868640"/>
            <a:ext cx="761832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lth sector funding is heavily dependant on external fu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te budget is estimated at 27 % and external funds accounts for 73 % of the health sector funds (2008). The total amount of funds for the health sector is estimated to be 512.1 millions US$ ( 2008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924200" y="1628640"/>
          <a:ext cx="5500440" cy="291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4200" y="1628640"/>
                    <a:ext cx="550044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 Mod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219320"/>
          <a:ext cx="8458200" cy="486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845820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zamb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762120"/>
          <a:ext cx="8058240" cy="547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62120"/>
                    <a:ext cx="805824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508720" y="2997360"/>
            <a:ext cx="2376360" cy="1726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2708280"/>
            <a:ext cx="1800360" cy="30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Paris? Which Pari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Levels of health 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229600" cy="3948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979640" y="4365720"/>
            <a:ext cx="576360" cy="288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4365720"/>
            <a:ext cx="576360" cy="288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99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C healt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5280" y="1052640"/>
          <a:ext cx="8229600" cy="5132160"/>
        </p:xfrm>
        <a:graphic>
          <a:graphicData uri="http://schemas.openxmlformats.org/drawingml/2006/table">
            <a:tbl>
              <a:tblPr/>
              <a:tblGrid>
                <a:gridCol w="5200920"/>
                <a:gridCol w="1009440"/>
                <a:gridCol w="1009800"/>
                <a:gridCol w="10094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med EC ODA financing for heal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lth/ED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ACP Heal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in America 2007-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P 1 2007-2010 health,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P 2007-2010 Middle-East, Caucasus, Central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sting in peo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th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ra ACP (330 2008-201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earch on poverty related diseases, EDC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otal programmed health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18,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18,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18,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dget support/ED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ACP budget sup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P 1 2007-2010 budget support,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caragua G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P 2007-2010 Middle-East, Caucasus, Central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programmed budget sup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Countries where health is a focal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31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P (4%/ GBS):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Liberia, Ivory Coast, DRC, Angola, Zimbabwe, Burundi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had,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ast Timor, Hait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Lesotho, Swaziland, South Africa, Zambia, Mozambiqu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ia (17%):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fghanistan, Burm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India, Philippines, Vietnam, Reg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tin America (Soc cohesion):Honduras and Ecu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th Africa /Middle East and Eastern Europe (8,8%): Algeria, Morocco, Egypt, Syria, Libya, Yemen, Ukraine, Moldova, Georgi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hematic EC health support:</a:t>
            </a:r>
            <a:br>
              <a:rPr sz="28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hapter under investing in people :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Good health for al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key health iss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isis in human resources in health care (21m, 07-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ngthen Europe's role in addressing the main poverty-related diseases such as HIV/AIDS, malaria and tuberculosis and  neglected diseases and emerging health threats (235 m 07-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xual and reproductive health and rights (SRHR) (41 m 07-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anced approach between prevention, treatment and care, including attention to the burden of non-communicable diseases and tobacco contro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003640" y="1268280"/>
          <a:ext cx="3240360" cy="5092920"/>
        </p:xfrm>
        <a:graphic>
          <a:graphicData uri="http://schemas.openxmlformats.org/drawingml/2006/table">
            <a:tbl>
              <a:tblPr/>
              <a:tblGrid>
                <a:gridCol w="1630440"/>
                <a:gridCol w="160992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s 2007 - 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lth for 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ucation and ski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der e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aspects of human &amp; social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ment and socila cohesioj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ren and y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Times New Roman"/>
              </a:rPr>
              <a:t>Reduce frag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itiatives for SWAP “revival”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gh Level Forum on Health MDGs (HL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8 communiqué on scaling up for health in Afric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national Health Partnership (IH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lobal Campaign on Health MDG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talytic Initiative to Save a Million Liv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scaling up for better health" (by the so-called "H8" : The Gates Foundation, GAVI Alliance, Global Fund to Fight AIDS, Tuberculosis and Malaria, UNAIDS, UN Population Fund, UNICEF, World Health Organization and the World Bank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ults Based Financing in 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VI health systems window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FATM modalities for health systems supp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Count down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l these initiatives aim at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better coordination of development assistan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increased investment in health systems strengthenin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o accelerate the achievement of the health MDG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principles of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Alma-Ata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community participation and development of basic health care delivery integrated with disease control) and of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Sector Wide Approach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together with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equitable, adequate and predictable levels of global ODA for healt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are gradually being recognized as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cornerstones to any health developmen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Nutrition and risk of il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ain risk factor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Nutrition : 25% 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Sexual behaviour : 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Water and sanitation :  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in-door air-pollution : 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lifestyle factors : 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New evidenc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Social inquities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 (CSD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nvironmental and 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climate change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threats (IPC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211640" y="836640"/>
          <a:ext cx="4417920" cy="42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836640"/>
                    <a:ext cx="4417920" cy="4227480"/>
                  </a:xfrm>
                  <a:prstGeom prst="rect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788000" y="5091120"/>
            <a:ext cx="2930400" cy="17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EC Budget support and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dvantages / Impac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educes fragmentattion/fungibility* and increases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*Has induced (through incentive tranches) increased national budget allocation to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isadvantages/failur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n some cas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Not increased allocations (esp. If high inf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Not increased net allocations (low execution r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equires adequate level (*) and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*In 10 African countries, the level required of GBS, at 15% health allocation, to meet CMH, would be 4 times the national fiscal revenues… : exceptional acse for health vs. Celings on social/public spend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79280" y="260280"/>
          <a:ext cx="8964720" cy="6456240"/>
        </p:xfrm>
        <a:graphic>
          <a:graphicData uri="http://schemas.openxmlformats.org/drawingml/2006/table">
            <a:tbl>
              <a:tblPr/>
              <a:tblGrid>
                <a:gridCol w="977760"/>
                <a:gridCol w="534960"/>
                <a:gridCol w="725760"/>
                <a:gridCol w="479160"/>
                <a:gridCol w="905040"/>
                <a:gridCol w="1477800"/>
                <a:gridCol w="725760"/>
                <a:gridCol w="928440"/>
                <a:gridCol w="479520"/>
                <a:gridCol w="825480"/>
                <a:gridCol w="905040"/>
              </a:tblGrid>
              <a:tr h="215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 BUDGET SUPPORT/GRADUAL ALIG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DGET SUPPORT/ALIG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 H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F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p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 HS/ga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 H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F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p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 BS/ga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had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8,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Burund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63,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2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,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on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95,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,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Lesot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7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ongo (RD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2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7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,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law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74,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1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East Tim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ozambiqu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9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95,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Ivory Coas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7,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,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Namib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Liberi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6,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Zambi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3,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1,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Nigeri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1,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,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7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6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wazi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7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Beni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1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U P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32,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,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Zimbabw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2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,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2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Burkina Fas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48,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9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3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,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632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,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Central African Rep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95,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Camerou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D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0,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,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10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Ethiopi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913,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5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Comor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2,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Gambia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31,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1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ritre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3,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Ghan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324,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uinea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3,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7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G Bissa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32,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1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47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auritania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8,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99,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pua new Guine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4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,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Keny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446,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omalia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37,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9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Madagascar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397,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1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udan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38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Mali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01,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5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,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ogo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41,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Niger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323,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265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Rwanda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10,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3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Senega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21,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,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Sierra Leone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19,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2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,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Tanz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3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Uganda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639,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,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6038,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302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73,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Total GB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4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Equitable ODA for heal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4427640" cy="2870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39272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ing “aid orphans” : Division of labou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y 2007 Code of Conduct on Division of Labour in Development Policy , includes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ross-sector complement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It includes addressing the “orphans”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3300"/>
                </a:solidFill>
                <a:latin typeface="Times New Roman"/>
              </a:rPr>
              <a:t>EC vs MS added value in heal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Progress on D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“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donor darl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countries — lik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Burkina Faso, Ghana, Kenya, Mali, Mozambique, Senegal, Vietna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ordination is fairly goo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t the principles of the Code are not yet being appli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o many donors by sector (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In Mali, more than 26 donors are active in rural development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more than three sectors of concentration per donor and very limited use of implementation instruments (e.g. delegated cooperation, co-financing, silent partnership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“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orphan” countr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— such as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ongo-Brazzaville, Madagascar, RCA and Tog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— the picture is more unev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alogue among donors is often less coordin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entives for DoL are limited 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.e. few donors, many needs, and the principles are sometimes not applicable (e.g. no country leadership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d practices are observed in some countries — such as in Chad and Niger — in particular in post-conflict countries where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coordination is deemed necessar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such as in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Côte d’Ivoire, Togo, and Leban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In Vietna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the EC will concentrate 80% of its aid for 2007-2010 in two sectors of concentration (general budget support and capacity building in the health sector). The remaining 20% will be dedicated to non-focal sectors (trade and governan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mmunity add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European Consensus has refined the definition of the Community’s comparative advantages in a two-step approa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institutional level, the Commission will aim to provide </a:t>
            </a: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added value through the following element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lang="en-GB" sz="1200" spc="-1" strike="noStrike">
                <a:solidFill>
                  <a:srgbClr val="ff3300"/>
                </a:solidFill>
                <a:latin typeface="Arial"/>
              </a:rPr>
              <a:t>global presence; (lead in many “fragile states”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3300"/>
                </a:solidFill>
                <a:latin typeface="Arial"/>
              </a:rPr>
              <a:t>policy coherence; promotion of development best practices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3300"/>
                </a:solidFill>
                <a:latin typeface="Arial"/>
              </a:rPr>
              <a:t>facilitation of coordination and harmonis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ivery in </a:t>
            </a:r>
            <a:r>
              <a:rPr b="0" lang="en-GB" sz="1200" spc="-1" strike="noStrike">
                <a:solidFill>
                  <a:srgbClr val="ff3300"/>
                </a:solidFill>
                <a:latin typeface="Arial"/>
              </a:rPr>
              <a:t>areas where size and critical m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motion of </a:t>
            </a:r>
            <a:r>
              <a:rPr b="0" lang="en-GB" sz="1200" spc="-1" strike="noStrike">
                <a:solidFill>
                  <a:srgbClr val="ff3300"/>
                </a:solidFill>
                <a:latin typeface="Arial"/>
              </a:rPr>
              <a:t>democracy, human rights, good governance and respect for international la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 special attention paid to transparency and anti-corruption; and the facilitation of dialogue with local economic and social interest partn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EDF support is usually concentrated in four sectors, except in fragile, post-crisis countries. The main ones 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general budget suppor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&gt;40% of countries, around 30% of volum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infrastructure, including water/energ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&gt;60% of countries, around 30% of volum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governance, including peace/securit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&gt;60% of countries, around 15% of volum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rural development and agricultur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&gt;30% of countries, around 8% of volu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sectors receive relatively modest direct support (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8% to specific health and education in 10 ED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Potential EC added value in health ? (ongoing evaluations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0000"/>
                </a:solidFill>
                <a:latin typeface="Arial"/>
              </a:rPr>
              <a:t>On-budget support and links to health dialogue/inputs/resul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0000"/>
                </a:solidFill>
                <a:latin typeface="Arial"/>
              </a:rPr>
              <a:t>Health in fragile states/LR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0000"/>
                </a:solidFill>
                <a:latin typeface="Arial"/>
              </a:rPr>
              <a:t>Links to health of infrastrcutures, social governance, rural develop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re predictable ai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verage, aid flows are at least six times more volatile than fiscal revenues. The relative volatility of aid is highest for the most aid-dependent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DG Contract offers long-term predictability in return for greater commitment to results by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DG-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: “to improve the effectiveness of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udget suppor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accelerating progress towards the MDGs by increasing its long term predictability and focussing on resul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budget suppor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strument. Other instruments will be needed where budget support is not appropr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so…to catalyse improvements in delivery of budget support from other budget support providers, while remaining within existing harmonisation frame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DG”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rong focus on the MDGs, notably health and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act”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utual responsibilities: more predictability for enhanced focus on (and financial commitment to) MD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 hard financial engagements set out in signed financia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Overview – core features, common to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x year time frame (cf 3 yrs at pres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 least [80%] of total commitment to be disbursed,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subject t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no breach in  eligibility/ criteria or fundamental/essential elements (cf average 65% “fixed” at pres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xed annual disbursements, subject to adjustment at mid-contract review (cf. annual FT and V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al monitoring, and reinforced dialogue (cf partial VT or delayed 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fety valve” ([10%]) to respond to eligibility concerns (as opposed to breach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rgeted at strong perfor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Main areas for country flex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asing of the [80%] fixed 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chanism for translating assessments of performance into financing decision for second ha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oice of indicators (focus on outcomes and PF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ready programm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EDF10 CSP and compliant with standard GBS eligibility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track record of GBS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um term framework for assessing performance with  active donor coordination mechanis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count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nin, Burkina Faso, Ghana, Madagascar, Mali, Mozambique, Rwanda, Tanzania, Uganda, and Zamb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 of all EDF 10 GBS, 16% of EDF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gibility to be formally assessed and confirmed during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2847960" cy="4337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56360" y="1197000"/>
            <a:ext cx="2689200" cy="4645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276720" y="2060640"/>
            <a:ext cx="261144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EC opportunities in aid effectiveness in h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Level : EU « conveeining » &gt; EC as do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Fragmentation : On-budget + S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quity : Division of labour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lignment : PRBS +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dictability : MD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The wide health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revention : multisectr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Social inequities : sustainable human development, </a:t>
            </a:r>
            <a:r>
              <a:rPr b="0" lang="fr-BE" sz="1400" spc="-1" strike="noStrike">
                <a:solidFill>
                  <a:srgbClr val="ff0000"/>
                </a:solidFill>
                <a:latin typeface="Arial"/>
              </a:rPr>
              <a:t>right to health and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0000"/>
                </a:solidFill>
                <a:latin typeface="Arial"/>
              </a:rPr>
              <a:t>Opportuniti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0000"/>
                </a:solidFill>
                <a:latin typeface="Arial"/>
              </a:rPr>
              <a:t>Rural development doubled aid in 10 E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0000"/>
                </a:solidFill>
                <a:latin typeface="Arial"/>
              </a:rPr>
              <a:t>Attention to governance : including social 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844640"/>
          <a:ext cx="8076960" cy="2747880"/>
        </p:xfrm>
        <a:graphic>
          <a:graphicData uri="http://schemas.openxmlformats.org/drawingml/2006/table">
            <a:tbl>
              <a:tblPr/>
              <a:tblGrid>
                <a:gridCol w="1346040"/>
                <a:gridCol w="1677960"/>
                <a:gridCol w="1295280"/>
                <a:gridCol w="1159200"/>
                <a:gridCol w="1252440"/>
                <a:gridCol w="134604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ri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tr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door pol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ual behavi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sty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s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rowth monitoring? IEC,EPI+,N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C, IM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C, IM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C, V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sec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ural dev,</a:t>
                      </a:r>
                      <a:r>
                        <a:rPr b="0" lang="fr-B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food security, education(IEC, school feedin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 dev,</a:t>
                      </a: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od secu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 dev</a:t>
                      </a: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edu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, gover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du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Links of child health and nutrition in EC development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92000" y="1628640"/>
            <a:ext cx="5761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Health systems : poor promotion/prioritization  of nutrition (factors </a:t>
            </a:r>
            <a:r>
              <a:rPr b="0" i="1" lang="fr-BE" sz="1600" spc="-1" strike="noStrike">
                <a:solidFill>
                  <a:srgbClr val="000000"/>
                </a:solidFill>
                <a:latin typeface="Arial"/>
              </a:rPr>
              <a:t>beyond health sector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, population-data through DHS/others –low frequenc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Rural development : grossly </a:t>
            </a:r>
            <a:r>
              <a:rPr b="0" i="1" lang="fr-BE" sz="1600" spc="-1" strike="noStrike">
                <a:solidFill>
                  <a:srgbClr val="000000"/>
                </a:solidFill>
                <a:latin typeface="Arial"/>
              </a:rPr>
              <a:t>disconnected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from health systems </a:t>
            </a:r>
            <a:r>
              <a:rPr b="0" i="1" lang="fr-BE" sz="1600" spc="-1" strike="noStrike">
                <a:solidFill>
                  <a:srgbClr val="000000"/>
                </a:solidFill>
                <a:latin typeface="Arial"/>
              </a:rPr>
              <a:t>monitoring of nutrition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and micronutrients’ programmes (weak health systems, interface of IEC from education/health sectors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0000"/>
                </a:solidFill>
                <a:latin typeface="Arial"/>
              </a:rPr>
              <a:t>Opportunity : greater attention to rural development in 10 EDF; predictability of MDGc and links with results, eg malnutr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6594840" y="2774160"/>
            <a:ext cx="2592360" cy="733320"/>
          </a:xfrm>
          <a:custGeom>
            <a:avLst/>
            <a:gdLst>
              <a:gd name="textAreaLeft" fmla="*/ 453600 w 2592360"/>
              <a:gd name="textAreaRight" fmla="*/ 1879560 w 259236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125129"/>
                <a:lnTo>
                  <a:pt x="20823" y="12062"/>
                </a:lnTo>
                <a:lnTo>
                  <a:pt x="17280" y="21600"/>
                </a:lnTo>
                <a:lnTo>
                  <a:pt x="12183" y="12062"/>
                </a:lnTo>
                <a:lnTo>
                  <a:pt x="14343" y="12062"/>
                </a:lnTo>
                <a:arcTo wR="7560" hR="21600" stAng="-3274871" swAng="-1767694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1042400">
            <a:off x="610920" y="1699920"/>
            <a:ext cx="733320" cy="2735280"/>
          </a:xfrm>
          <a:custGeom>
            <a:avLst/>
            <a:gdLst>
              <a:gd name="textAreaLeft" fmla="*/ 98280 w 733320"/>
              <a:gd name="textAreaRight" fmla="*/ 635040 w 733320"/>
              <a:gd name="textAreaTop" fmla="*/ 478440 h 2735280"/>
              <a:gd name="textAreaBottom" fmla="*/ 19832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EC Food security and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ng term objectives to eradicate food insecurity, will only be met through nationally owned and developed poverty reduction strate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graphical instruments (EDF, DCI and ENPI) at national and regional lev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od aid, as a humanitarian tool, managed by 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od Security Thematic Programme (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Food security budget line : € &gt;440 m in 2006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ress food security issues at global continental and regional le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rate in those countries where the geographical instrument cannot be fully utilised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EC Food aid and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 ECHO food aid is mainly implemented by the World Food Programme that received nearly 150 /220  million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trition interventions are implemented mainly by UNICEF and some specialized NGO like ACF, MSF or SCF.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01600" y="236520"/>
            <a:ext cx="8739360" cy="6389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932360" y="6418440"/>
            <a:ext cx="4010040" cy="439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06:22:22Z</dcterms:created>
  <dc:creator>garayju</dc:creator>
  <dc:description/>
  <dc:language>en-US</dc:language>
  <cp:lastModifiedBy>Lebret</cp:lastModifiedBy>
  <dcterms:modified xsi:type="dcterms:W3CDTF">2008-12-02T14:20:46Z</dcterms:modified>
  <cp:revision>11</cp:revision>
  <dc:subject/>
  <dc:title>The EC approach to health support  and the relation with the public financing gap </dc:title>
</cp:coreProperties>
</file>